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EDCC379-4142-429E-831E-60168293DA4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B06D59E-43BA-4FE3-ABEF-9ED7D38DECB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974FA9D-1633-4AF5-BBDA-590315CF6A2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DDFE72B-B4BF-4FC4-A0A2-ECF5717AF5B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60A6446-5CE8-42F8-8711-7CE722F4998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AF63DAA-822D-4835-8EB4-3F7C4C64EBF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4BDB761-6210-4E0C-82AE-B577A5F0E20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D9B407-D3EC-4585-B781-5F020DA18F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713AB4-8174-4FFA-8DFC-D6FBF95FB1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CBFC27-F890-46C1-927B-2D5EEAE52A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981ED6-8CEC-4C47-98ED-FD0F0D1538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0C29B3-649B-490C-9899-527B41128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B1108-F103-4EAC-BB2A-4E8F4A7F5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F44FD2-64E1-4F1C-BA52-BF79B8E25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5CB6F8-7EAD-40D1-87A1-B4FBDC8DD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22E19-A4A2-4518-A219-17CCE1CE4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641A5-3CE5-4024-A11B-19675DE7A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E3161-7D93-4BA7-95B2-E8562070D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774EE3-DEFD-400F-BD16-16ABBB8584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B85FC-DFC1-428C-9E0E-85DC30C79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F054B-0E79-4557-8E1A-7C513811D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0C8201-4BC7-476E-9722-961D9CF4A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F96226-6AF0-456C-ABC4-29463EE127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62F1F1-0636-4AA5-99F5-AE2A0AA1C8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99BFA8-259E-48CC-A8E9-95686EBB69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6C1A87-3553-4A6A-AE4D-C5C59B25AA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2807C8-BAB0-41E5-9FE9-BA05D016E6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3E2B88-B491-4EC8-BAC7-706B4648D8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089526-7C89-4998-8E1E-E97BCBF28E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D4AC73-EA36-4A60-B603-5F1A6B7926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78A1E3-0FD0-4389-BB3D-49B8F62B9E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6D58-C380-4823-9E61-42BF7C955AD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C0E1-657A-41FC-9066-7DABB346007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EDBD3C7A-2F45-4319-BEFC-E68FC447D89D}" type="datetime3">
              <a:rPr b="0" lang="en-US" sz="2000" spc="-1" strike="noStrike">
                <a:solidFill>
                  <a:srgbClr val="ffffcc"/>
                </a:solidFill>
                <a:latin typeface="Tahoma"/>
              </a:rPr>
              <a:t>July 30,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