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874CFD8-0445-4DB2-8557-FE91E90C0AE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E409FE6-08A5-4FBE-8EC3-6A7C389DCD7B}"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B0A1894-6089-49A2-B159-A6ED03A2ECC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C7EC629-B930-48F5-97D8-4521A011BB2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85CA253-B7B1-48B8-90A6-4560911A3E2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519F074-637E-45DA-81FF-349C8554169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AEA0637-9BBF-4EAC-8101-86B14F5C7BE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68E225-8206-4FEC-B977-7E44606A86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1C9CF3-59C1-4680-A8F9-08CF566BC0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EE6928-46C0-4164-A961-420864352D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59B623-4FDE-4A99-8B58-7613BC1864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69097F-E290-4535-998F-BE63C15EAC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177D95-739E-4DC5-906D-2500643A3B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71D29E-39BC-48D6-A22A-3D3A57521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4D72E9-5F7F-40E3-9BB6-D4EDE51158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DC3194-72E8-4D81-902C-48F5EC628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ED3DBE-E54E-456F-B734-44D040650C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FBEBD3-351D-4CDC-9E46-5E84BA259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622F99-C534-4DAF-BB08-789004CA5F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1F24D-65CA-4728-844A-E520AD25F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9B4968-1AE4-4132-A364-4FB91A42AC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BEE0D8-C75B-4CEF-B035-9FCE483BD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628E6C-0151-4C9C-B1B8-AF0D95D916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2A2538-59A8-4963-8DFF-C643059BC9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CA65FA-DDD8-4751-A76E-1F2EB67B70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537DC7-6813-491F-BA4D-98083BD03C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C91C76-8E86-44FA-90AA-2AFBC2F337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FFBD79-D28D-4C7A-9F51-301E1635ED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C6C30B-5CC1-4C81-9CE2-3159934D9B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398AB1-2B9C-4C1C-BB13-E33D531ADE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E4FBB7-4E39-4A2F-B96F-6F981B3C9B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303C-F1B1-42C4-9E08-C19832368E4E}"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8B89-DD97-4711-86EC-723FC54F97E9}"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7C333690-2A1F-483C-B034-ED9B286C121F}" type="datetime3">
              <a:rPr b="0" lang="en-US" sz="2000" spc="-1" strike="noStrike">
                <a:solidFill>
                  <a:srgbClr val="ffffcc"/>
                </a:solidFill>
                <a:latin typeface="Tahoma"/>
              </a:rPr>
              <a:t>July 29,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