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13B3A60-FD4D-4C70-B198-C6CAAAF5246C}"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16FFFDF-8F40-425D-B004-BC0B5E47B602}"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308B55A-1A8D-4958-B46A-88622E37711E}"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E7C8DBC-14FE-4FAE-8A44-F24ABB652229}"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240595E-A234-4553-8F7B-E2DBECE1F227}"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6F97C22-79E5-4D62-BF63-3471FD41D320}"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0CBBF0E-F305-4935-AA44-0A7BC94BD065}"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E22A6B-BF64-48C8-AB61-C22177DAC5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6EAC13-51AA-4E20-864D-9184F2F2B2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3ADD4D-F2B7-43B0-AC9D-596B9C12D5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60A6B7-D9C5-4329-88B4-CAB66E5D3C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D31F96-6C8E-4A0D-9515-E59A9E541B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1EB8B6-5893-4B2C-9BC0-DE96337FE1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7F9D85-24C2-4BD4-B678-520A66E800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5179F9-D204-4EF2-ACD4-2F56E3E97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1FAD71-E7AA-4564-BE0C-B6B87A522D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0A43A7-5BDD-4A81-8553-516C431355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7C90B1-0D04-4F48-A67F-A7172009D4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7B3EAD-9133-4EF3-A036-82B54F8F6A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B0703F-6663-4743-ADC1-8EC2FD2293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CAA2C4-7281-455B-AE2A-43F00ACED9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0EC525-A461-4F8B-B023-9A15A4E065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B1D783-6015-45FC-A112-7F9052F8F4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54A5C3-CAB2-4691-88FB-B6BCE82AE3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55E04B-112E-401E-AE1D-0B7B0C5DCB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D30B0B-2505-4A5B-851E-671961D5A8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9E43B0-D37F-47EC-9A48-01A6B7046A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B32AB5-7BB4-44A1-8178-7EC3694B37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3163E7-0A01-48A9-A619-FEEA867541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3DCF61-1AD0-4D84-A741-C70F9324DC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B64EA3-3A60-40EA-A1ED-1A448B2AE8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0A74D-9B81-4F9F-B66B-C364417CE83C}"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CDA7F-8D42-429D-9EBD-7EEE5BB9F76F}"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E7914D37-F701-48D4-A8AD-C7029A6068A6}" type="datetime3">
              <a:rPr b="0" lang="en-US" sz="2000" spc="-1" strike="noStrike">
                <a:solidFill>
                  <a:srgbClr val="ffffcc"/>
                </a:solidFill>
                <a:latin typeface="Tahoma"/>
              </a:rPr>
              <a:t>July 28,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